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44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03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2600" y="-360"/>
            <a:ext cx="29703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57400" y="680760"/>
            <a:ext cx="4541760" cy="340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Book Antiqua"/>
              </a:rPr>
              <a:t>Click to move the slide</a:t>
            </a:r>
            <a:endParaRPr b="0" lang="en-US" sz="5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440" y="4314600"/>
            <a:ext cx="548316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27760"/>
            <a:ext cx="29703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2600" y="8627760"/>
            <a:ext cx="29703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B90FCA1A-5DF8-4C2C-AFC8-E85EF4DE76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440" y="4314600"/>
            <a:ext cx="548316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ed an individual’s cash flow for an individual for their life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expected income, expenses, savings, and annual investment retu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d a random event generator to incorporate “likely” events that may occ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dentified 1-time and lifetime events, probabilities, and imp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Used Crystal Ball to determine the outcomes of key decision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Age of dea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Age when events occ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Whether events occ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Investment retu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h Flow elements: some defined, some random (which are green cel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d Inputs (rationale for inputs and impact on income and expenses, describe cash flow mode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dom Generator (how random events, means and standard deviations are applied, timing of random events – when appli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440" y="4314600"/>
            <a:ext cx="548316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ed an individual’s cash flow for an individual for their life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expected income, expenses, savings, and annual investment retu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d a random event generator to incorporate “likely” events that may occ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dentified 1-time and lifetime events, probabilities, and imp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Used Crystal Ball to determine the outcomes of key decision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Age of dea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Age when events occ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Whether events occ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Investment retu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h Flow elements: some defined, some random (which are green cel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d Inputs (rationale for inputs and impact on income and expenses, describe cash flow mode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dom Generator (how random events, means and standard deviations are applied, timing of random events – when appli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440" y="4314600"/>
            <a:ext cx="548316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ed an individual’s cash flow for an individual for their life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expected income, expenses, savings, and annual investment retu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d a random event generator to incorporate “likely” events that may occ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dentified 1-time and lifetime events, probabilities, and imp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Used Crystal Ball to determine the outcomes of key decision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Age of dea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Age when events occ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Whether events occ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Investment retu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h Flow elements: some defined, some random (which are green cel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d Inputs (rationale for inputs and impact on income and expenses, describe cash flow mode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dom Generator (how random events, means and standard deviations are applied, timing of random events – when appli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CA01-D9A1-4500-829E-7B1C24AE2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ECA2-E45B-4427-9684-3F3E29704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8F60-FA3E-4D6C-A2A9-847C194A7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027F-799E-4342-9F49-BC31F8683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EB686-B31D-4A50-8A2F-7EBA4DA15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FD239-DD44-40AB-9CD5-240531980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F8B1E-BD24-408B-95A5-992C5D3E2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B6499-DA24-4A9C-B6B6-9463B328E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7075B-75E2-4BB5-994A-C5796E595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54E7F-150F-4BFF-BE63-039C93ED2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F36AE-9AEE-4B93-B119-D57BB8226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8C5C-BDD8-4401-8042-F1564C77B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C2E6B-F109-4D2E-B6F9-0ED07C98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E52B8-DBED-4978-A571-F50791C55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5B317-4D3E-451B-A122-2AF8CCF94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F8108-7826-4926-B99F-E0F3F7FCD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425BB-4C61-4A86-9B34-394CA41D2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A3D2-7C1D-4452-9780-7C9C8D0B3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C5E3-C67F-4BA8-B7A1-AB07C78C1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F4A8-9274-4EAB-8492-4D78294B1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1851-0B0A-4043-B47B-F8BD23228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3DE9-90AB-43A6-8A45-359C3A006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AFEF-E22E-4FA1-B295-B4C4C85B8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2D00-DB9D-4A75-A4BD-33CC60838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EBCAA-92F5-4FC3-9286-6B231CB634C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>
            <a:alphaModFix amt="61000"/>
          </a:blip>
          <a:stretch/>
        </p:blipFill>
        <p:spPr>
          <a:xfrm>
            <a:off x="7699320" y="4648320"/>
            <a:ext cx="1216080" cy="1981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6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06948-38D1-4074-B3AA-6507C88066B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Book Antiqua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164040" y="1219320"/>
            <a:ext cx="2855880" cy="4647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Book Antiqu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Book Antiqua"/>
              </a:rPr>
              <a:t>Zoltar Knows Your Future</a:t>
            </a:r>
            <a:endParaRPr b="0" lang="en-US" sz="48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28600" y="6172200"/>
            <a:ext cx="8686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Lisa Bornstein - Whitney Chamberlain - Bill Kenworthy - Tracey Lubin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ok Antiqua"/>
              </a:rPr>
              <a:t>Banker Results…</a:t>
            </a: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990720" y="2203560"/>
            <a:ext cx="6629400" cy="358776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ook Antiqua"/>
              </a:rPr>
              <a:t>Retires at 56 with $12.5M total to live with over 25 years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ok Antiqua"/>
              </a:rPr>
              <a:t>Profile #2: Entrepreneur</a:t>
            </a: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2514600"/>
            <a:ext cx="86868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5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-325800">
              <a:spcBef>
                <a:spcPts val="62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ook Antiqua"/>
              </a:rPr>
              <a:t>Salary = $50K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-325800">
              <a:spcBef>
                <a:spcPts val="62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ook Antiqua"/>
              </a:rPr>
              <a:t>Married/Dual Income = 50% incremental income and 5% incremental expense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-325800">
              <a:spcBef>
                <a:spcPts val="62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ook Antiqua"/>
              </a:rPr>
              <a:t>Risk-Neutral Investor Style = 8% mean return; 10% StDev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-325800">
              <a:spcBef>
                <a:spcPts val="62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ook Antiqua"/>
              </a:rPr>
              <a:t>Average Expense Style = 10% savings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-325800">
              <a:spcBef>
                <a:spcPts val="62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ook Antiqua"/>
              </a:rPr>
              <a:t>Living in Suburbs = 5% savings effect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914400"/>
            <a:ext cx="8076960" cy="160020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c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rmAutofit/>
          </a:bodyPr>
          <a:p>
            <a:pPr>
              <a:lnSpc>
                <a:spcPct val="85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Married 28 year-old aspiring entrepreneur living off his/her working spouse in the suburbs, average spending habits and risk-neutral lifestyle ($200K/year retirement goal)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ok Antiqua"/>
              </a:rPr>
              <a:t>Entrepreneur Results…</a:t>
            </a: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85000"/>
              </a:lnSpc>
              <a:spcBef>
                <a:spcPts val="62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ook Antiqua"/>
              </a:rPr>
              <a:t>Retires at 54; 70% chance of buyout after 36 years; mean retirement amount of $12M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219320" y="2514600"/>
            <a:ext cx="617220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ok Antiqua"/>
              </a:rPr>
              <a:t>Profile #3: Marketer</a:t>
            </a: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2438280"/>
            <a:ext cx="84582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spcBef>
                <a:spcPts val="62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ook Antiqua"/>
              </a:rPr>
              <a:t>Salary = $95K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spcBef>
                <a:spcPts val="62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ook Antiqua"/>
              </a:rPr>
              <a:t>Married/Single Income = no incremental income effect and 5% incremental expense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spcBef>
                <a:spcPts val="62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ook Antiqua"/>
              </a:rPr>
              <a:t>Risk-Averse Investor Style = 4% mean return; 1% StDev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spcBef>
                <a:spcPts val="62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ook Antiqua"/>
              </a:rPr>
              <a:t>Thrifty Expense Style = 15% savings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spcBef>
                <a:spcPts val="62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ook Antiqua"/>
              </a:rPr>
              <a:t>Living in Country = 10% savings effect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914400"/>
            <a:ext cx="8076960" cy="175248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c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rmAutofit fontScale="98000"/>
          </a:bodyPr>
          <a:p>
            <a:pPr>
              <a:lnSpc>
                <a:spcPct val="95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Married 28 year-old country-dwelling marketer supporting his/her stay-at-home spouse, with thrifty spending habits and risk-averse lifestyle ($150K/year retirement goal)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ok Antiqua"/>
              </a:rPr>
              <a:t>Marketer Results…</a:t>
            </a: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5000"/>
              </a:lnSpc>
              <a:spcBef>
                <a:spcPts val="62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ook Antiqua"/>
              </a:rPr>
              <a:t>Retires at 60 with $2.7M total to live with over 20 years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990720" y="2133720"/>
            <a:ext cx="655308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ok Antiqua"/>
              </a:rPr>
              <a:t>What to Remember About </a:t>
            </a:r>
            <a:r>
              <a:rPr b="0" lang="en-US" sz="3900" spc="-1" strike="noStrike">
                <a:solidFill>
                  <a:srgbClr val="ffffcc"/>
                </a:solidFill>
                <a:latin typeface="Book Antiqua"/>
              </a:rPr>
              <a:t>This</a:t>
            </a:r>
            <a:r>
              <a:rPr b="0" lang="en-US" sz="4000" spc="-1" strike="noStrike">
                <a:solidFill>
                  <a:srgbClr val="ffffcc"/>
                </a:solidFill>
                <a:latin typeface="Book Antiqua"/>
              </a:rPr>
              <a:t> Model...</a:t>
            </a: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73152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In actuality…the model provides a realistic tool for retirement planning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imply plug in more events and with more realistic odds…BAM…      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ook Antiqua"/>
              </a:rPr>
              <a:t>your future is predicted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2" name=""/>
          <p:cNvSpPr/>
          <p:nvPr/>
        </p:nvSpPr>
        <p:spPr>
          <a:xfrm>
            <a:off x="152280" y="1447920"/>
            <a:ext cx="8839440" cy="152388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c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rmAutofit/>
          </a:bodyPr>
          <a:p>
            <a:pPr marL="609480" indent="-6094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Book Antiqua"/>
              </a:rPr>
              <a:t>Zoltar is No Jok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Book Antiqua"/>
              </a:rPr>
              <a:t>He’s planning to apply to Merrill Lynch as a financial planner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Book Antiqua"/>
              </a:rPr>
              <a:t>Zoltar Knows Your Future</a:t>
            </a:r>
            <a:endParaRPr b="0" lang="en-US" sz="48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228600" y="6172200"/>
            <a:ext cx="8686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Lisa Bornstein - Whitney Chamberlain - Bill Kenworthy - Tracey Lubin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cc"/>
                </a:solidFill>
                <a:latin typeface="Book Antiqua"/>
              </a:rPr>
              <a:t>Appendix</a:t>
            </a:r>
            <a:endParaRPr b="0" lang="en-US" sz="5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ok Antiqua"/>
              </a:rPr>
              <a:t>Model Mechanics</a:t>
            </a: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ash Flow calculation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xpense ratio, savings contribution, investment return, PV of retirement monies, year of retiremen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nsitivity Analysis (impacts of changes to parameters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rystal Ball assumptions and forecasts (distributions, mean and standard deviations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VLookup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ok Antiqua"/>
              </a:rPr>
              <a:t>Profile Assumptions</a:t>
            </a: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Baseline salary based on profession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Expense ratio affected by: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arital status, expense style, and where you liv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avings growth affected by: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vestment styl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s is a normally distributed random variabl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Book Antiqu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Risk-averse: mean = 4%; standard deviation = 1%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Book Antiqu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Risk-neutral: mean = 8%; standard deviation = 10%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Book Antiqu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Risky: mean = 17%; standard deviation = 35%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ok Antiqua"/>
              </a:rPr>
              <a:t>Agenda</a:t>
            </a: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Big”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Project Overview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Zoltar Predicts for the Clas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Problem Definition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Model Mechanic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Long-term Stats for 3 Classic Profile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akeaway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ok Antiqua"/>
              </a:rPr>
              <a:t>Crystal Ball Assumptions</a:t>
            </a: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Death Age assumes normal distribution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ean = 75; Standard Deviation = 6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ge of event occurrence assumes discrete uniform distribution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in = current age; Max = 85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Probability of event occurring assumes continuous uniform distribution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in = 0; Max = 1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ok Antiqua"/>
              </a:rPr>
              <a:t>Some Extras We Incorporated</a:t>
            </a: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Macro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orm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Visual Basic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ok Antiqua"/>
              </a:rPr>
              <a:t>Project Overview</a:t>
            </a: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3200400"/>
            <a:ext cx="73152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85800" indent="-3427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You will learn the age when you can retire and the amount of money you will have at ret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3427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Zoltar will take into account your current lifestyle profile as well as the randomness of 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171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2280" y="1447920"/>
            <a:ext cx="8839440" cy="152388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c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rmAutofit/>
          </a:bodyPr>
          <a:p>
            <a:pPr marL="609480" indent="-6094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Zoltar Will Tell You About Your Fut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ok Antiqua"/>
              </a:rPr>
              <a:t>Let Zoltar Predict Your Future…</a:t>
            </a: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37920" y="2819160"/>
            <a:ext cx="3581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Book Antiqua"/>
              </a:rPr>
              <a:t>Take your turn…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ok Antiqua"/>
              </a:rPr>
              <a:t>Problem Definition</a:t>
            </a: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8839440" cy="152388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c0000">
                <a:alpha val="50000"/>
              </a:srgbClr>
            </a:outerShdw>
          </a:effectLst>
        </p:spPr>
        <p:txBody>
          <a:bodyPr lIns="45720" rIns="45720" tIns="46800" bIns="46800" anchor="ctr" anchorCtr="1">
            <a:normAutofit fontScale="92000"/>
          </a:bodyPr>
          <a:p>
            <a:pPr marL="560520"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MBA students are making decisions </a:t>
            </a:r>
            <a:r>
              <a:rPr b="1" lang="en-US" sz="2300" spc="-1" strike="noStrike" u="sng">
                <a:solidFill>
                  <a:srgbClr val="000000"/>
                </a:solidFill>
                <a:uFillTx/>
                <a:latin typeface="Book Antiqua"/>
              </a:rPr>
              <a:t>that will shape their future</a:t>
            </a:r>
            <a:endParaRPr b="0" lang="en-US" sz="2300" spc="-1" strike="noStrike">
              <a:solidFill>
                <a:srgbClr val="ffffff"/>
              </a:solidFill>
              <a:latin typeface="Book Antiqua"/>
            </a:endParaRPr>
          </a:p>
          <a:p>
            <a:pPr marL="56052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  <a:p>
            <a:pPr marL="560520"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Book Antiqua"/>
              </a:rPr>
              <a:t>How will these </a:t>
            </a:r>
            <a:r>
              <a:rPr b="1" i="1" lang="en-US" sz="2300" spc="-1" strike="noStrike">
                <a:solidFill>
                  <a:srgbClr val="000000"/>
                </a:solidFill>
                <a:latin typeface="Book Antiqua"/>
              </a:rPr>
              <a:t>decisions</a:t>
            </a:r>
            <a:r>
              <a:rPr b="1" lang="en-US" sz="2300" spc="-1" strike="noStrike">
                <a:solidFill>
                  <a:srgbClr val="000000"/>
                </a:solidFill>
                <a:latin typeface="Book Antiqua"/>
              </a:rPr>
              <a:t> impact their retirement? </a:t>
            </a:r>
            <a:endParaRPr b="0" lang="en-US" sz="2300" spc="-1" strike="noStrike">
              <a:solidFill>
                <a:srgbClr val="ffffff"/>
              </a:solidFill>
              <a:latin typeface="Book Antiqua"/>
            </a:endParaRPr>
          </a:p>
          <a:p>
            <a:pPr marL="56052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  <a:p>
            <a:pPr marL="560520"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Book Antiqua"/>
              </a:rPr>
              <a:t>What about </a:t>
            </a:r>
            <a:r>
              <a:rPr b="1" i="1" lang="en-US" sz="2300" spc="-1" strike="noStrike">
                <a:solidFill>
                  <a:srgbClr val="000000"/>
                </a:solidFill>
                <a:latin typeface="Book Antiqua"/>
              </a:rPr>
              <a:t>unplanned events</a:t>
            </a:r>
            <a:r>
              <a:rPr b="1" lang="en-US" sz="2300" spc="-1" strike="noStrike">
                <a:solidFill>
                  <a:srgbClr val="000000"/>
                </a:solidFill>
                <a:latin typeface="Book Antiqua"/>
              </a:rPr>
              <a:t>? </a:t>
            </a:r>
            <a:endParaRPr b="0" lang="en-US" sz="23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3352680"/>
            <a:ext cx="7315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9200" indent="-3492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re are things you can control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9160" indent="-285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Marital status, investment style, spending habits, career choice, et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9160" indent="-285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9200" indent="-3492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nd some things you can’t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9160" indent="-285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andom events include things like winning the lottery, getting bitten by a shark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ok Antiqua"/>
              </a:rPr>
              <a:t>How Model Addresses Problem</a:t>
            </a:r>
            <a:br>
              <a:rPr sz="3200"/>
            </a:br>
            <a:r>
              <a:rPr b="0" lang="en-US" sz="4000" spc="-1" strike="noStrike">
                <a:solidFill>
                  <a:srgbClr val="ffffcc"/>
                </a:solidFill>
                <a:latin typeface="Book Antiqua"/>
              </a:rPr>
              <a:t>(</a:t>
            </a:r>
            <a:r>
              <a:rPr b="0" i="1" lang="en-US" sz="3200" spc="-1" strike="noStrike">
                <a:solidFill>
                  <a:srgbClr val="ffffcc"/>
                </a:solidFill>
                <a:latin typeface="Book Antiqua"/>
              </a:rPr>
              <a:t>31,500 ft View)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1600200"/>
            <a:ext cx="1447560" cy="838080"/>
          </a:xfrm>
          <a:prstGeom prst="flowChartProcess">
            <a:avLst/>
          </a:prstGeom>
          <a:solidFill>
            <a:srgbClr val="d8afa0"/>
          </a:solidFill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Receive User Prof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57400" y="1600200"/>
            <a:ext cx="1447920" cy="838080"/>
          </a:xfrm>
          <a:prstGeom prst="flowChartProcess">
            <a:avLst/>
          </a:prstGeom>
          <a:solidFill>
            <a:srgbClr val="d8afa0"/>
          </a:solidFill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Translate to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Paramet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09880" y="1600200"/>
            <a:ext cx="1447920" cy="838080"/>
          </a:xfrm>
          <a:prstGeom prst="flowChartProcess">
            <a:avLst/>
          </a:prstGeom>
          <a:solidFill>
            <a:srgbClr val="d8afa0"/>
          </a:solidFill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Determ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Base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Cashfl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562720" y="1600200"/>
            <a:ext cx="1447560" cy="838080"/>
          </a:xfrm>
          <a:prstGeom prst="flowChartProcess">
            <a:avLst/>
          </a:prstGeom>
          <a:solidFill>
            <a:srgbClr val="d8afa0"/>
          </a:solidFill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Generate Random Ev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315200" y="1600200"/>
            <a:ext cx="1447920" cy="838080"/>
          </a:xfrm>
          <a:prstGeom prst="flowChartProcess">
            <a:avLst/>
          </a:prstGeom>
          <a:solidFill>
            <a:srgbClr val="d8afa0"/>
          </a:solidFill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Channel Zoltar’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Predi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2590920"/>
            <a:ext cx="1447560" cy="32004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6680" indent="-166680"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A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Career Cho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Marital Statu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Investment Sty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Spending Habi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Where to Liv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Retirement Goal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057400" y="2590920"/>
            <a:ext cx="1447920" cy="32004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6680" indent="-166680"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Annual salary &amp; growt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Savings contribu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Investment Retur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Expense Rat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09880" y="2590920"/>
            <a:ext cx="1447920" cy="32004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1240" indent="-111240"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Non-random parameters yield lifetime cashflow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11240" indent="-111240"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Modeled via Exc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590920"/>
            <a:ext cx="1447560" cy="32004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1240" indent="-111240"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Library of 33 Random ev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11240" indent="-111240"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Each with distinct probability &amp; impa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11240" indent="-111240"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Either one-time or lifeti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11240" indent="-111240"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Impacts Cashflow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11240" indent="-111240"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Effected by Crystal Ba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315200" y="2590920"/>
            <a:ext cx="1447920" cy="190476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1240" indent="-111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Zoltar predicts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11240" indent="-111240"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11240" indent="-111240"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RIP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11240" indent="-111240"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Retirement A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11240" indent="-111240"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Money at Retirem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11240" indent="-111240"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Life’s Ev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0" name=""/>
          <p:cNvCxnSpPr>
            <a:stCxn id="110" idx="3"/>
            <a:endCxn id="111" idx="1"/>
          </p:cNvCxnSpPr>
          <p:nvPr/>
        </p:nvCxnSpPr>
        <p:spPr>
          <a:xfrm>
            <a:off x="1752120" y="2018880"/>
            <a:ext cx="30564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1" idx="3"/>
            <a:endCxn id="112" idx="1"/>
          </p:cNvCxnSpPr>
          <p:nvPr/>
        </p:nvCxnSpPr>
        <p:spPr>
          <a:xfrm>
            <a:off x="3505320" y="2018880"/>
            <a:ext cx="3052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2" idx="3"/>
            <a:endCxn id="113" idx="1"/>
          </p:cNvCxnSpPr>
          <p:nvPr/>
        </p:nvCxnSpPr>
        <p:spPr>
          <a:xfrm>
            <a:off x="5257440" y="2018880"/>
            <a:ext cx="30564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3" idx="3"/>
            <a:endCxn id="114" idx="1"/>
          </p:cNvCxnSpPr>
          <p:nvPr/>
        </p:nvCxnSpPr>
        <p:spPr>
          <a:xfrm>
            <a:off x="7009920" y="2018880"/>
            <a:ext cx="30564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indefinite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indefinite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indefinite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indefinite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indefinite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indefinite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indefinite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indefinite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ok Antiqua"/>
              </a:rPr>
              <a:t>Peek Into the Model Mechanics</a:t>
            </a: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686800" cy="5354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04920" y="4724280"/>
            <a:ext cx="4114800" cy="167652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2209680"/>
            <a:ext cx="4114800" cy="167652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7.77058E-007 C 0.05816 -0.08164 0.11667 -0.16304 0.11667 -0.2241 C 0.11667 -0.28515 0.0191 -0.34343 -3.33333E-006 -0.36679 E">
                                      <p:cBhvr>
                                        <p:cTn id="66" dur="1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0.00047 L 0.45 -0.00047 E">
                                      <p:cBhvr>
                                        <p:cTn id="72" dur="1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ok Antiqua"/>
              </a:rPr>
              <a:t>Event Generator via Crystal Ball</a:t>
            </a: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683560" cy="53611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6400800" y="1905120"/>
            <a:ext cx="2286000" cy="449568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1905120"/>
            <a:ext cx="5410080" cy="449568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ok Antiqua"/>
              </a:rPr>
              <a:t>Profile #1: Banker</a:t>
            </a: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62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ook Antiqua"/>
              </a:rPr>
              <a:t>Salary = $200K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62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ook Antiqua"/>
              </a:rPr>
              <a:t>Single = No incremental income or expense effects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62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ook Antiqua"/>
              </a:rPr>
              <a:t>Risky Investor Style = 17% mean return; 35% StDev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62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ook Antiqua"/>
              </a:rPr>
              <a:t>High Roller = Only 5% savings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62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ook Antiqua"/>
              </a:rPr>
              <a:t>Living Locale = No incremental savings effect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990720"/>
            <a:ext cx="8001000" cy="137160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c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rmAutofit fontScale="96000"/>
          </a:bodyPr>
          <a:p>
            <a:pPr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Single 28 year-old living in NYC with dreams to retire enough savings to spend at least $500K per year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9:11:51Z</dcterms:created>
  <dc:creator>Whitney Chamberlain</dc:creator>
  <dc:description/>
  <dc:language>en-US</dc:language>
  <cp:lastModifiedBy>Bill Kenworthy</cp:lastModifiedBy>
  <dcterms:modified xsi:type="dcterms:W3CDTF">2007-12-03T03:21:10Z</dcterms:modified>
  <cp:revision>56</cp:revision>
  <dc:subject/>
  <dc:title>Zoltar Knows Your Future</dc:title>
</cp:coreProperties>
</file>